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74C-EC87-41C4-B24C-40B99B1A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C9E-2C74-41CA-93EA-79DDF0D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C4A-9A7B-43BF-A019-B975D94B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A35-A9E4-4A66-B834-3B236A5A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7DD-F0B8-457F-849A-B0F1627A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9FF-852F-4DBD-BD0A-68E134F0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656-E173-406B-8A14-CC530E7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F36-C99F-4817-B893-D131B3B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97C-76CB-4143-A1A9-C926313E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B96-7DA3-4DFD-8E35-620D115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8A1-7034-4E50-B30B-525694C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2FB-8407-415E-8AD5-12029AB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1A2-1AAC-4982-9741-4BFC1D13E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OBSERVATIONAL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99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7162920" cy="358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29000" y="762120"/>
            <a:ext cx="22096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6:49Z</dcterms:modified>
  <cp:revision>105</cp:revision>
  <dc:subject/>
  <dc:title>The Art in the State of the Art</dc:title>
</cp:coreProperties>
</file>